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9D1-DA8C-49AE-BEFA-CF730DAD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7F2-10D1-400F-9E17-81045F5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A99-D44B-41EF-90EA-5453E38D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B31-CF84-4FC7-9925-B26397B7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8728-9E8D-4B7A-B70D-530F30DE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4117-1FF1-4530-B1D3-48AB5E78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A3B2-7503-4AF8-B56A-6F3A20EB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D670-D361-4D3C-96BB-78FA6A5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8A5F-63BE-43C4-9996-A4EAE1D0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89F4-A20A-4BB2-B9A7-B2F6D0D4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FEC1-04F7-48C4-87DE-97F73FC3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2CA-18C5-4A43-B8C3-551D3A8C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80F5-A618-4EFF-86C5-DDD0266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C827-BE8C-4EA8-8FF4-088DFB67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8DA5-B8A9-4102-95AA-A42020D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9AFC-CD79-44D9-9BE0-4AC6CE24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82EB-77D8-4990-B56B-7B886F91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F747-3454-4790-92B0-116D16C5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0550-BF19-4F75-8C66-8D057F0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D353-520D-490E-937B-FFC99F3F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152A-17AE-4C5A-8E3B-67E6A8DE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0242-8350-4277-9E24-2D8BCFB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1B0-3F3C-4F5B-9FA7-3B1C6B7F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D492-3EB9-4D5F-915A-76727D1C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3D16-E895-45E9-9FCD-0A5DD11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C1E3-FF3F-44DD-B998-2ED7696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7374-CB5B-47D8-AAED-ABDF6A2C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8DA0-46A4-4E2F-B84E-B75BE787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B523-F369-4211-A5AD-82CB8062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CAD0-4085-4D94-922A-90DBA2D9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A987-2704-46AA-A4EC-5400CF2C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BFD5-1CC4-46F7-8349-153CBA17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D340-925B-4347-8DD4-BBFB4A3E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02B-9BE2-491B-B9EA-B80B8990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D77B-56FA-4367-B5DF-BB4424AA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7FC5C-B939-47FB-A4AF-81F493D4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DEA2-52C5-4305-A1DF-666D64AB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A299-4DA6-4662-9BC7-1CA26E5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D7383-AC88-462D-BE0C-63F8988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9A49-5181-46F2-AAC5-7AFF5C9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B293-0BCD-47C6-9F93-77FE8515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9B9A-8A1D-475B-B080-298C806C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1027-085F-43BD-A98A-96955419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A4940-6411-4DD0-9F8A-6EF3AD3A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EA7-321F-4AA5-B515-8C71B084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05E41-7E35-43C8-BC54-FD76EAB6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6C86-A88A-4EA3-BC0F-A55C5316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78A6-305F-4D11-BF41-647285DE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D1FF-A735-4301-BB2C-ACB23262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B1C1E-B0CC-4370-BA7F-93460886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AD8A5-05C9-4857-A04F-8FE6854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7D232-CA6A-4DEE-8B34-ECF88B05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18E15-85A8-4D67-B8E0-14368E0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ACF3A-57EE-4A23-9CA0-46F719DF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A15C9-1888-46CB-A990-77FC980C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AD7-DC08-40D9-A94F-E7AE1EB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4C77C-170E-4C56-9997-FEF014EB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B3394-ED14-4776-833E-D969AA19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3A227-9869-41F3-8127-3E88481A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F006-9936-46FB-BA80-A056BD5B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7591-949F-42F1-91EE-25A1E19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CF51-6C25-4A64-8678-AA44076B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72A1-53E7-4D2F-BFE6-64D0EE1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8EB45-5B19-463A-97BA-33098FA8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E950A-863F-4559-B986-60FDB64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C97E1-6884-4511-817C-644711A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E77-90DC-4E3D-91F6-4B5F3BF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5122-CDB9-4D90-8153-26260844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58A1-061B-4DC8-B9CC-789CC930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721BF-E883-4781-9438-8C96278D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08B81-3416-4221-B50A-71FDDBEB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D4B21-61B9-4495-BD2A-3FFD91EA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BA07A-5334-4C59-AA4F-677E7AA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DDAF8-D3F1-45E2-9105-273E4DD9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CB38D-B9AB-4AFD-A7A2-EDEE7B3A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C671D-F903-4382-9427-0E46D35F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472B4-6A56-4280-A4D9-BFC4AAFE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3B3-002F-4A26-8332-F62D691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DCA4D-65E0-46FF-940C-F65BF0C5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51D8C-1728-41B1-8E5E-2A0159CD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DEFA6-B8B8-4897-ADF8-3F51B374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B9890-8DAE-4F06-A34D-72B42F08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C1D9-486B-4BC8-9E5F-11D1DE7E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B9898-1587-44B0-926C-8FE61DDA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FB36E-1D9E-4090-A62E-48BDFC2D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9DAD0-DBF8-45E2-9240-2C3DEE5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D570A-3F79-41DA-9481-29384D2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15C50-84A6-482B-9BD5-44D1FD6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292-C678-4DFB-B545-E33FF10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0E49B-929D-4035-B430-EA84EDE7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98B5-1934-43B8-8CC6-D254156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D4511-87C2-4AFF-8FC0-4E7C43A2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72A0B-6720-4B33-A40C-1125CDD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6EFC-BCE6-43C3-87D8-5D876E42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2FE89-0BA9-48AE-B1D7-15398A39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A988-BFEE-4425-A726-4ED41C86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93AF-B877-4074-A0BE-0C7A630EC9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9A7C-03FA-4853-A495-AF5C602B2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5593-D492-4812-B846-A8CB252F49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2E8-9FB3-4CDF-B310-C1504E7F97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E010-50C8-4153-990C-ADD765A10A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1828-F8E4-4673-ACF1-B221BD3C06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E19F-C7F9-4DAB-B695-73AFC04550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7BC7-96A7-4C14-9DF1-AB0803992F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publications/iepguidance.htm" TargetMode="External"/><Relationship Id="rId2" Type="http://schemas.openxmlformats.org/officeDocument/2006/relationships/hyperlink" Target="http://www.p12.nysed.gov/specialed/formsnotices/IEP/training/questions.htm" TargetMode="External"/><Relationship Id="rId3" Type="http://schemas.openxmlformats.org/officeDocument/2006/relationships/hyperlink" Target="http://www.p12.nysed.gov/specialed/formsnotices/IEP/memo-Jan10.ht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and Amendments to the Regulations of the Commissioner of Educ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da1f28"/>
                </a:solidFill>
                <a:latin typeface="Lucida Sans Unicode"/>
              </a:rPr>
              <a:t>Effective December  8, 201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rcRect l="21430" t="0" r="21430" b="0"/>
          <a:stretch/>
        </p:blipFill>
        <p:spPr>
          <a:xfrm>
            <a:off x="304920" y="304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Supplementary Aids and Services / Program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Modifications / Accommoda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:1 aide is here no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ultations are not here (in supports for school personnel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vel training is not here (in Program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gn language interpreter is here no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Assistive Technology Devices and/or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n be low tech (pencil grips, paper stabilizers, etc.) or high tech (voice activated computers, Dynavox, etc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Supports for School Personnel on Behalf of th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Stud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lp for teachers to more effectively work with the stud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. Consultatio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(programs, related services, supplemental aids and services / program modifications / accommodations, assistive technology, supports for school personne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01520" y="3429000"/>
          <a:ext cx="8839440" cy="2295360"/>
        </p:xfrm>
        <a:graphic>
          <a:graphicData uri="http://schemas.openxmlformats.org/drawingml/2006/table">
            <a:tbl>
              <a:tblPr/>
              <a:tblGrid>
                <a:gridCol w="1227240"/>
                <a:gridCol w="2373120"/>
                <a:gridCol w="1473480"/>
                <a:gridCol w="1473120"/>
                <a:gridCol w="1228680"/>
                <a:gridCol w="106380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ervice Delivery 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Begin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rect or Indi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ow often prov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ngth of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a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x 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source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/7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cxnSp>
        <p:nvCxnSpPr>
          <p:cNvPr id="402" name="Straight Arrow Connector 5"/>
          <p:cNvCxnSpPr/>
          <p:nvPr/>
        </p:nvCxnSpPr>
        <p:spPr>
          <a:xfrm>
            <a:off x="457200" y="4722840"/>
            <a:ext cx="457920" cy="2160"/>
          </a:xfrm>
          <a:prstGeom prst="straightConnector1">
            <a:avLst/>
          </a:prstGeom>
          <a:ln w="5400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934320" y="58672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d date will still be used but not necessa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06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2-Month Service and/or Progr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grams and services are together 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2189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esting Accommod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990720" y="1828800"/>
          <a:ext cx="8001000" cy="411624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esting Accommo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Implementation Recommend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pecific to the student’s disability and needs to be </a:t>
                      </a:r>
                      <a:r>
                        <a:rPr b="1" lang="en-US" sz="1800" spc="-1" strike="noStrike">
                          <a:solidFill>
                            <a:srgbClr val="2da2bf"/>
                          </a:solidFill>
                          <a:latin typeface="Lucida Sans Unicode"/>
                        </a:rPr>
                        <a:t>used consistentl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by the stud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st characteristics: describe the type, length, purpose of the test  upon which the use of testing accommodations is conditioned, if appli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dentify the amount of extended time, type of setting, etc., specific to the testing accommodations, if appli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end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lassroom testing should be started in the regular classroom an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5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Coordinated Set of Transition Activities (8</a:t>
            </a:r>
            <a:r>
              <a:rPr b="1" lang="en-US" sz="25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 grad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Participation in State and District-wide Assessments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this section will come before goals in order to determine if objectives / benchmarks are necessary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Participation with Students Without Disabilit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Special Transport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Placement Recommendations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e.g. Home Public Schoo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0" y="1295280"/>
            <a:ext cx="4648320" cy="42674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EP Direct &amp; the New IEP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198960" y="1828800"/>
            <a:ext cx="2746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fields required in the New IEP must be entered in order to finalize; use the </a:t>
            </a:r>
            <a:r>
              <a:rPr b="1" lang="en-US" sz="2700" spc="-1" strike="noStrike">
                <a:solidFill>
                  <a:srgbClr val="44b9e8"/>
                </a:solidFill>
                <a:latin typeface="Lucida Sans Unicode"/>
              </a:rPr>
              <a:t>Validate Butt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da1f28"/>
                </a:solidFill>
                <a:latin typeface="Lucida Sans Unicode"/>
              </a:rPr>
              <a:t>Red Exclamation Mar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ll be present in each section where data is missing (clicking the warning will indicate which fields are mi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inalization button has been moved to the top of the document details scre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rcRect l="0" t="14584" r="78910" b="65630"/>
          <a:stretch/>
        </p:blipFill>
        <p:spPr>
          <a:xfrm>
            <a:off x="6477120" y="533520"/>
            <a:ext cx="2057400" cy="144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 flipH="1" flipV="1">
            <a:off x="8001000" y="19810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ntering Test Information.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en the student’s draft document and go to the Reports/Assessments Ta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rcRect l="72284" t="26535" r="8249" b="60340"/>
          <a:stretch/>
        </p:blipFill>
        <p:spPr>
          <a:xfrm>
            <a:off x="4191120" y="35053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590920" y="2819520"/>
            <a:ext cx="182880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ntering Test Information.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information into </a:t>
            </a:r>
            <a:r>
              <a:rPr b="1" lang="en-US" sz="2700" spc="-1" strike="noStrike">
                <a:solidFill>
                  <a:srgbClr val="2da2bf"/>
                </a:solidFill>
                <a:latin typeface="Lucida Sans Unicode"/>
              </a:rPr>
              <a:t>Evaluations/Repor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ec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id by = distri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 file = y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rcRect l="2399" t="19791" r="57673" b="10420"/>
          <a:stretch/>
        </p:blipFill>
        <p:spPr>
          <a:xfrm>
            <a:off x="5029200" y="1371600"/>
            <a:ext cx="36417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a2bf"/>
                </a:solidFill>
                <a:latin typeface="Lucida Sans Unicode"/>
              </a:rPr>
              <a:t>3 Major Amendments to the Commissioner’s Regul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nimum service delivery requirement for speech and language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stablishment of a variance provision for the maximum number of students receiving integrated co-teaching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nimum level of service requirement for instructional services to meet the individual language needs of students with autis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ntering Test Information.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information into </a:t>
            </a:r>
            <a:r>
              <a:rPr b="1" lang="en-US" sz="2700" spc="-1" strike="noStrike">
                <a:solidFill>
                  <a:srgbClr val="2da2bf"/>
                </a:solidFill>
                <a:latin typeface="Lucida Sans Unicode"/>
              </a:rPr>
              <a:t>State and Districtwide Assess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2344" t="29852" r="6250" b="38810"/>
          <a:stretch/>
        </p:blipFill>
        <p:spPr>
          <a:xfrm>
            <a:off x="228600" y="3276720"/>
            <a:ext cx="8915400" cy="1904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191120" y="3886200"/>
            <a:ext cx="4495680" cy="1600200"/>
          </a:xfrm>
          <a:prstGeom prst="ellipse">
            <a:avLst/>
          </a:prstGeom>
          <a:noFill/>
          <a:ln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2362320"/>
            <a:ext cx="1219320" cy="160020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57200" y="5105160"/>
            <a:ext cx="990720" cy="5331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5410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not delete anything here!!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ntering Test Information.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information into </a:t>
            </a:r>
            <a:r>
              <a:rPr b="1" lang="en-US" sz="2700" spc="-1" strike="noStrike">
                <a:solidFill>
                  <a:srgbClr val="2da2bf"/>
                </a:solidFill>
                <a:latin typeface="Lucida Sans Unicode"/>
              </a:rPr>
              <a:t>Standardized Test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ducational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asic Reading Skil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ading Comprehens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th Calculation Skil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th Reaso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ritten Express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rcRect l="1562" t="29168" r="53907" b="21878"/>
          <a:stretch/>
        </p:blipFill>
        <p:spPr>
          <a:xfrm>
            <a:off x="4876920" y="3048120"/>
            <a:ext cx="3809880" cy="3141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0" y="3962520"/>
            <a:ext cx="2590920" cy="1371600"/>
          </a:xfrm>
          <a:prstGeom prst="ellipse">
            <a:avLst/>
          </a:prstGeom>
          <a:noFill/>
          <a:ln w="540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2286000"/>
            <a:ext cx="30492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657600" y="48765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495288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a2bf"/>
                </a:solidFill>
                <a:latin typeface="Arial"/>
              </a:rPr>
              <a:t>Enter Standard scores as Type 1 and percentiles as type 2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Present Level of Performance and Individual Need Section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should be able to sta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student’s unique needs that require the student’s educational program to be individualiz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the student can and cannot do in each area of identified ne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strengths of the student are upon which you can buil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environmental, human, or material resources the student will need to enable him/her to benefit from educ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Goals and Objective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a9cd0"/>
                </a:solidFill>
                <a:latin typeface="Lucida Sans Unicode"/>
              </a:rPr>
              <a:t>Evaluative Criteri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How well and over what period of time the student must perform a behavior in order to consider it m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a9cd0"/>
                </a:solidFill>
                <a:latin typeface="Lucida Sans Unicode"/>
              </a:rPr>
              <a:t>Evaluation procedures (Method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 An objective method used to measure progress and determine if a student has met the objective or benchma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a9cd0"/>
                </a:solidFill>
                <a:latin typeface="Lucida Sans Unicode"/>
              </a:rPr>
              <a:t>Evaluation Schedu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The intervals of time by which evaluation procedures will be used to measure progres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(Not the date of master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Template / Guideline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48104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iven (conditions, accommodations), student name will (do what – observable skill/behavior in functional term) (to what extent) (over what period of time) or (by when) as evaluated b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733920" y="1481040"/>
          <a:ext cx="5257800" cy="4329360"/>
        </p:xfrm>
        <a:graphic>
          <a:graphicData uri="http://schemas.openxmlformats.org/drawingml/2006/table">
            <a:tbl>
              <a:tblPr/>
              <a:tblGrid>
                <a:gridCol w="1314360"/>
                <a:gridCol w="1504800"/>
                <a:gridCol w="1067040"/>
                <a:gridCol w="137160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asurable Go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nual 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e0e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iven 6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grade material, Mike will read orally at 80-100 words per minute with 95%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 3 consecutive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minu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ek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Additional Resources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uide to Quality Individualized Education Program Development and Implementa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p12.nysed.gov/specialed/publications/iepguidance.htm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Questions and Answers on Individualized Education Program (IEP) Development, The State's Model IEP Form and Related Document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12.nysed.gov/specialed/formsnotices/IEP/training/questions.htm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tudent Information Summary and Individualized Education Program (IEP)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p12.nysed.gov/specialed/formsnotices/IEP/memo-Jan10.htm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grams / Related Services No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cript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 Exit Summary will enable when a student reaches 1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nnel Assign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1544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791320" y="339084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mise is this is the order that the meeting should be condu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esent levels of performance and individual needs (evaluations, reports, and resul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Academic Achievement, Functional Performance, and Learning Characterist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ocial Develop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hysical Develop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Management Nee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5"/>
          <p:cNvSpPr/>
          <p:nvPr/>
        </p:nvSpPr>
        <p:spPr>
          <a:xfrm>
            <a:off x="60958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l must include parent concer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Right Brace 6"/>
          <p:cNvSpPr/>
          <p:nvPr/>
        </p:nvSpPr>
        <p:spPr>
          <a:xfrm>
            <a:off x="5105520" y="3048120"/>
            <a:ext cx="761760" cy="1828800"/>
          </a:xfrm>
          <a:custGeom>
            <a:avLst/>
            <a:gdLst>
              <a:gd name="textAreaLeft" fmla="*/ 0 w 761760"/>
              <a:gd name="textAreaRight" fmla="*/ 275040 w 761760"/>
              <a:gd name="textAreaTop" fmla="*/ 19800 h 1828800"/>
              <a:gd name="textAreaBottom" fmla="*/ 18090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5"/>
                  <a:pt x="10800" y="750"/>
                </a:cubicBezTo>
                <a:lnTo>
                  <a:pt x="10800" y="10050"/>
                </a:lnTo>
                <a:cubicBezTo>
                  <a:pt x="10800" y="10425"/>
                  <a:pt x="16200" y="10800"/>
                  <a:pt x="21600" y="10800"/>
                </a:cubicBezTo>
                <a:cubicBezTo>
                  <a:pt x="16200" y="10800"/>
                  <a:pt x="10800" y="11175"/>
                  <a:pt x="10800" y="11550"/>
                </a:cubicBezTo>
                <a:lnTo>
                  <a:pt x="10800" y="20850"/>
                </a:lnTo>
                <a:cubicBezTo>
                  <a:pt x="10800" y="212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ffect of student needs on involvement and progress in the general education curriculum or, for a preschool student, effect of student needs on participation in appropriate activ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 needs relating to special factors (new section) with 5 s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havioral strateg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lind / Visually Impai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munication need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sistive technology (home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able postsecondary goals – mandatory age 15 and ol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ducation / Trai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mploy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dependent Living Skills (when appropriat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nsition Nee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06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able Annual 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914400" y="2209680"/>
          <a:ext cx="7315200" cy="35211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nnual 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asure to determine if the goal has been achie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ow progress will be meas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en progress will be meas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0% success over 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acher devised tests or 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very 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cxnSp>
        <p:nvCxnSpPr>
          <p:cNvPr id="389" name="Straight Arrow Connector 5"/>
          <p:cNvCxnSpPr/>
          <p:nvPr/>
        </p:nvCxnSpPr>
        <p:spPr>
          <a:xfrm>
            <a:off x="1600200" y="3733920"/>
            <a:ext cx="838800" cy="21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Progra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ultant teacher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tegrated co-teaching services (can be class specific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ource room progra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ecial cla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vel trai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apted physical educ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Lucida Sans Unicode"/>
              </a:rPr>
              <a:t>Related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peech / language therap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udiology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erpreting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sychological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unseling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T / O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ientation and mobility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rent counseling and train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hool health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hool social wor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4648320" y="480060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Lucida Sans Unicode"/>
              </a:rPr>
              <a:t>1:1 aide, consultation services, travel training, and sign language interpreter are no longer he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32:12Z</dcterms:created>
  <dc:creator>wsmith</dc:creator>
  <dc:description/>
  <dc:language>en-US</dc:language>
  <cp:lastModifiedBy>setup</cp:lastModifiedBy>
  <dcterms:modified xsi:type="dcterms:W3CDTF">2011-01-05T18:39:02Z</dcterms:modified>
  <cp:revision>25</cp:revision>
  <dc:subject/>
  <dc:title>The New IEP</dc:title>
</cp:coreProperties>
</file>